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65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B2F-FA5E-44CA-8A04-A51441E0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5FD-7E63-4487-84A2-04FED9B9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0FE-1C56-42E9-8E73-0FD7964A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2CF-A0DA-4435-B5F6-FF909573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8992-DA79-4348-BC52-46E3A19E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A2B7-DB5B-4C58-B12F-5E55E520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C8AE-737A-42E6-B446-74A61284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E13A-7B99-4AB1-BF03-5D08F2EB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3F17-B6E5-44AE-A71F-4B5D610D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395A-7D99-4B94-927F-4C41A4D9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037C-1EB5-46F9-B847-F2C6A9FF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807-E8B2-4E2D-B9DC-D596EB94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8F48-6065-4FE7-830D-106735D1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206B-F16D-4FA7-BC23-512BA75A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ED69-ABD3-4874-AE50-51404620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8433-732E-4F79-890C-629DB244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BE0D-2D1F-411E-A6C8-4E7F5F8C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127E-516C-4C49-B613-1860AB4A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B46-8A20-4695-97EE-19C60C88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F32-AB9A-4ED5-A6AA-0DAE09C2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E1A-8350-477C-B38F-0C3F5C92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0D0-83C3-4143-A7DB-F3D9A9A1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08A-105D-42A4-940C-B9733580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BC6-2CFA-4E4D-A1A6-B274F0A5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1683-F1E2-488A-9EE6-F4C1A0C74E3F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628640"/>
            <a:ext cx="7010280" cy="71640"/>
          </a:xfrm>
          <a:prstGeom prst="roundRect">
            <a:avLst>
              <a:gd name="adj" fmla="val 0"/>
            </a:avLst>
          </a:prstGeom>
          <a:solidFill>
            <a:srgbClr val="86d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9C3D-F4F7-4529-8BF4-A3BB4D865EE3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20" y="-11448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95640" y="1376640"/>
            <a:ext cx="7199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Elektronik Bankacılıkta</a:t>
            </a:r>
            <a:br>
              <a:rPr sz="4800"/>
            </a:b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Uluslararası Yaklaşıml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hmet Türkay VAR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ilgi Yönetimi Dairesi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/ B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ire Başkan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5EA2-1FC0-4164-8F17-51625CD773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mli Konu Başlıkları / 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Ris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46400" y="1628640"/>
            <a:ext cx="520524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kar Edem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(Gizlil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hremi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Bütünlüğ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739-53F4-454E-A310-097C6D6E1A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 Çıkan Korunma Teknik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03280" y="1484280"/>
            <a:ext cx="691200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ok Faktörlü 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ldiği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Sahip Olduğu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yolojik Tekil Bir Özelliğ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im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letilen Verinin Şifrelen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AFB5-E8A1-43FF-8387-1260696FC2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Güçlü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0920" y="1987200"/>
            <a:ext cx="8064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zı Tekniklerin Kullanım Alt Yapısının Oluşmamış Olması (E-İmz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knolojinin Gelişen ve Değişen Yapı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nel Erişime Açık Or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cı Bilinç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5D1-DE99-46FC-BC0F-E2FD9550C2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BDDK Çalışmalar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1280" y="2211120"/>
            <a:ext cx="698508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nkalarda Bilgi Sistemlerinin Yönetiminde Esas Alınacak İlkelere İlişkin Tebli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ternet Bankacı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DC9-96D5-44FE-BEA5-DDD5D79C3D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12640" y="333360"/>
            <a:ext cx="77115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İLGİNİZ İÇİN TEŞEKÜ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ORU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5C1-DFEF-4D3A-921D-2A9F192F34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13000" y="3254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Çatı Kurum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 for International Settlements (BIS) – Electronic Banking Group of Basel Committee on Banking Sup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Risk Yönetimi İlkeleri” – Temmuz 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Risk Management Principles for Electronic Bank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uropean Committee for Banking Standards (ECB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Güvenlik Kılavuzları: Basel Risk Yönetimi İlkeleri Uygulamaları” – Ağustos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Security Guidelines for e-Banking: Application of Basel Risk Managemen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AE4-F96A-45E7-8FFA-54821F5250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)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6760" y="2176560"/>
            <a:ext cx="69343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na Başlıkl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Üst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Kontrol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sal Risk ve İtibar Riski Yön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720" y="6580080"/>
            <a:ext cx="78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* BIS’in Temmuz 2003 tarihli “Risk Management Principles for Electronic Banking” dokümanın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2E2-478C-4985-9EA5-5859496646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536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Faaliyetleri Üzerinde Etkin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apsamlı Güvenlik Kontrol Süreçlerinin Tesis Edil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stek Hizmeti Alımına İlişkin Faaliyetlerin Gözetimi, Hizmet Kalitesi ve Diğer Unsurların Taki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178596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Üst Yönetim Göz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6C0-1AF5-4568-99C8-8D5CD139BE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23558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İnkar Edememe ve Güvenilir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Görevler Ayrılığı İçin Uygun Önlem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Sistemleri, Veritabanları ve Uygulamaları İçin Uygun Yetk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, Kayıtları ve Bilgileri İçin Veri Bütünlüğ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Denetim İzlerinin (log) Tutu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ritik Banka Bilgileri İçin Gizli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Güvenlik Kontroller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90D-B8BB-4ABB-884D-E4D004134D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638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Hizmetleri İle İlgili Yeterli Açık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rinin Mahremiye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Sistemlerinin ve Servislerinin Sürekliliğini Sağlamak Üzere Kapasite, İş Sürekliliği ve İhtimal Planla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lay Cevap Plan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692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Yasal Risk ve İtibar Riski Yön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C00-4E55-4026-B362-0F05AC8A9D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 Alınma Biçim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üzenl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Mevcut Düzenlemeler Kapsamında Değer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onuya İlişkin Yeni Düzenlemelerin Hazırlan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ılavu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5640" y="522936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ertifikasy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WebTrust, BBBOnline, TrustUK,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8F0-371C-4F75-9B52-0061080E97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1308240"/>
            <a:ext cx="8207280" cy="51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907-1B6C-4ACB-9070-8E90480A8F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963800"/>
            <a:ext cx="8244000" cy="4489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8360" y="1225440"/>
            <a:ext cx="828036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C0D-1D53-47DD-9F24-05E014D90F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47:00Z</dcterms:created>
  <dc:creator>Zerrin Saba</dc:creator>
  <dc:description/>
  <dc:language>en-US</dc:language>
  <cp:lastModifiedBy>avarli</cp:lastModifiedBy>
  <dcterms:modified xsi:type="dcterms:W3CDTF">2007-05-22T12:08:34Z</dcterms:modified>
  <cp:revision>3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